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7C62-6FA8-4EF7-BAE7-097BCAAC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424-472D-4451-85DE-D952663D0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CA19-2F66-44F9-B610-2078341F4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504-E282-4D7C-A8EF-5B013E42A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DAD-1D90-43AC-A922-F9C79584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2186-5643-4E99-A913-4E68E3DDB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CEF1-2248-49B3-A0DE-58E03682D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6900-F05C-4C05-919A-4C576613A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F483-33B1-48D6-BB40-AEDDAB7BB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3E2F-8B91-459B-8C26-8025565D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4AB5-3B2E-431C-8CA7-70D6B8448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E154-57CB-470E-AB3E-7295F1A17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CF83-15A1-4736-AE1B-91A5A2C97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93F0-6DE2-4FBA-A476-8CE05F43F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1D8E-B162-467A-B420-A68B0E0B0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254F-C14D-417B-A12D-42F3838D0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1F9A-257F-43A9-A60D-096E7D4C2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70A8-7138-4E6C-A8EF-80DBF52C5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8B43-DE40-4708-8485-0B2AD5668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DBC-4823-4439-A0C7-6853ED26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F43-3263-496D-BDFD-7C50F52A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066-B177-470F-A340-EFBB85AD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B32-29BE-47E3-9B69-09315321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BFC5-F556-45AB-8F81-5016A3B5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113F-39D0-43C4-9D46-33656FF2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112D-FEB0-41B9-A7B3-35C58A82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8DF7-08A4-4D41-983F-4AA6B7F4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3F67-352F-4CC9-B05E-5E3473E0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0B68-BA22-4CE3-98FD-1C76991E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56BB-38F8-4F68-A462-C1DFE96E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B19-4A41-4722-BCCB-E1262BCB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08D9-0846-4BFE-AF14-07519BA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70AB-767B-4684-8FAD-EF99D4E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A28B-A751-4CAB-BDF7-A3C59388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34E0-D2B8-4256-B3F8-E8FB2EDC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209C-4C96-4C4B-AAA8-66783145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802-BAD1-47DD-8821-4B78AB7A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D89-DE5C-4F64-B0AA-F9C2DB32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CC0-6A7E-4681-A2DF-EAAEEA84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C7C-79BB-4534-9D18-2389A263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483-FE0A-41CA-8611-C706C63A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481-8E51-495E-AB9F-65E5B3A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94F-8516-4180-85AE-ED30A51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FA7-5A94-4E93-8836-01F5045A9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A08A-3843-4DAC-9D93-94020B1AB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C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rriculum  </a:t>
            </a: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A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ignmen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3200400" y="2362320"/>
          <a:ext cx="283860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362320"/>
                    <a:ext cx="28386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6"/>
          <p:cNvGraphicFramePr/>
          <p:nvPr/>
        </p:nvGraphicFramePr>
        <p:xfrm>
          <a:off x="3581280" y="3048120"/>
          <a:ext cx="13003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3048120"/>
                    <a:ext cx="13003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77"/>
          <p:cNvGrpSpPr/>
          <p:nvPr/>
        </p:nvGrpSpPr>
        <p:grpSpPr>
          <a:xfrm>
            <a:off x="1523880" y="2133720"/>
            <a:ext cx="6181560" cy="4000320"/>
            <a:chOff x="1523880" y="2133720"/>
            <a:chExt cx="6181560" cy="4000320"/>
          </a:xfrm>
        </p:grpSpPr>
        <p:grpSp>
          <p:nvGrpSpPr>
            <p:cNvPr id="140" name="Group 75"/>
            <p:cNvGrpSpPr/>
            <p:nvPr/>
          </p:nvGrpSpPr>
          <p:grpSpPr>
            <a:xfrm>
              <a:off x="1528560" y="2138400"/>
              <a:ext cx="6172200" cy="3990960"/>
              <a:chOff x="1528560" y="2138400"/>
              <a:chExt cx="6172200" cy="3990960"/>
            </a:xfrm>
          </p:grpSpPr>
          <p:grpSp>
            <p:nvGrpSpPr>
              <p:cNvPr id="141" name="Group 30"/>
              <p:cNvGrpSpPr/>
              <p:nvPr/>
            </p:nvGrpSpPr>
            <p:grpSpPr>
              <a:xfrm>
                <a:off x="1528560" y="2138400"/>
                <a:ext cx="1542960" cy="701640"/>
                <a:chOff x="1528560" y="2138400"/>
                <a:chExt cx="1542960" cy="701640"/>
              </a:xfrm>
            </p:grpSpPr>
            <p:sp>
              <p:nvSpPr>
                <p:cNvPr id="142" name="Rectangle 29"/>
                <p:cNvSpPr/>
                <p:nvPr/>
              </p:nvSpPr>
              <p:spPr>
                <a:xfrm>
                  <a:off x="1528560" y="213840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Group 28"/>
                <p:cNvGrpSpPr/>
                <p:nvPr/>
              </p:nvGrpSpPr>
              <p:grpSpPr>
                <a:xfrm>
                  <a:off x="1528560" y="2138400"/>
                  <a:ext cx="1542960" cy="701640"/>
                  <a:chOff x="1528560" y="2138400"/>
                  <a:chExt cx="1542960" cy="701640"/>
                </a:xfrm>
              </p:grpSpPr>
              <p:sp>
                <p:nvSpPr>
                  <p:cNvPr id="144" name="Rectangle 7"/>
                  <p:cNvSpPr/>
                  <p:nvPr/>
                </p:nvSpPr>
                <p:spPr>
                  <a:xfrm>
                    <a:off x="1596960" y="213840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Rectangle 27"/>
                  <p:cNvSpPr/>
                  <p:nvPr/>
                </p:nvSpPr>
                <p:spPr>
                  <a:xfrm>
                    <a:off x="1528560" y="213840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" name="Group 34"/>
              <p:cNvGrpSpPr/>
              <p:nvPr/>
            </p:nvGrpSpPr>
            <p:grpSpPr>
              <a:xfrm>
                <a:off x="3071520" y="2138400"/>
                <a:ext cx="1543320" cy="701640"/>
                <a:chOff x="3071520" y="2138400"/>
                <a:chExt cx="1543320" cy="701640"/>
              </a:xfrm>
            </p:grpSpPr>
            <p:sp>
              <p:nvSpPr>
                <p:cNvPr id="147" name="Rectangle 33"/>
                <p:cNvSpPr/>
                <p:nvPr/>
              </p:nvSpPr>
              <p:spPr>
                <a:xfrm>
                  <a:off x="3071520" y="213840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32"/>
                <p:cNvGrpSpPr/>
                <p:nvPr/>
              </p:nvGrpSpPr>
              <p:grpSpPr>
                <a:xfrm>
                  <a:off x="3071520" y="2138400"/>
                  <a:ext cx="1543320" cy="701640"/>
                  <a:chOff x="3071520" y="2138400"/>
                  <a:chExt cx="1543320" cy="701640"/>
                </a:xfrm>
              </p:grpSpPr>
              <p:sp>
                <p:nvSpPr>
                  <p:cNvPr id="149" name="Rectangle 8"/>
                  <p:cNvSpPr/>
                  <p:nvPr/>
                </p:nvSpPr>
                <p:spPr>
                  <a:xfrm>
                    <a:off x="3139920" y="213840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Rectangle 31"/>
                  <p:cNvSpPr/>
                  <p:nvPr/>
                </p:nvSpPr>
                <p:spPr>
                  <a:xfrm>
                    <a:off x="3071520" y="213840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1" name="Group 38"/>
              <p:cNvGrpSpPr/>
              <p:nvPr/>
            </p:nvGrpSpPr>
            <p:grpSpPr>
              <a:xfrm>
                <a:off x="4614840" y="2138400"/>
                <a:ext cx="1542960" cy="701640"/>
                <a:chOff x="4614840" y="2138400"/>
                <a:chExt cx="1542960" cy="701640"/>
              </a:xfrm>
            </p:grpSpPr>
            <p:sp>
              <p:nvSpPr>
                <p:cNvPr id="152" name="Rectangle 37"/>
                <p:cNvSpPr/>
                <p:nvPr/>
              </p:nvSpPr>
              <p:spPr>
                <a:xfrm>
                  <a:off x="4614840" y="213840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Group 36"/>
                <p:cNvGrpSpPr/>
                <p:nvPr/>
              </p:nvGrpSpPr>
              <p:grpSpPr>
                <a:xfrm>
                  <a:off x="4614840" y="2138400"/>
                  <a:ext cx="1542960" cy="701640"/>
                  <a:chOff x="4614840" y="2138400"/>
                  <a:chExt cx="1542960" cy="701640"/>
                </a:xfrm>
              </p:grpSpPr>
              <p:sp>
                <p:nvSpPr>
                  <p:cNvPr id="154" name="Rectangle 9"/>
                  <p:cNvSpPr/>
                  <p:nvPr/>
                </p:nvSpPr>
                <p:spPr>
                  <a:xfrm>
                    <a:off x="4682880" y="213840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Rectangle 35"/>
                  <p:cNvSpPr/>
                  <p:nvPr/>
                </p:nvSpPr>
                <p:spPr>
                  <a:xfrm>
                    <a:off x="4614840" y="213840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" name="Group 42"/>
              <p:cNvGrpSpPr/>
              <p:nvPr/>
            </p:nvGrpSpPr>
            <p:grpSpPr>
              <a:xfrm>
                <a:off x="6157800" y="2138400"/>
                <a:ext cx="1542960" cy="701640"/>
                <a:chOff x="6157800" y="2138400"/>
                <a:chExt cx="1542960" cy="701640"/>
              </a:xfrm>
            </p:grpSpPr>
            <p:sp>
              <p:nvSpPr>
                <p:cNvPr id="157" name="Rectangle 41"/>
                <p:cNvSpPr/>
                <p:nvPr/>
              </p:nvSpPr>
              <p:spPr>
                <a:xfrm>
                  <a:off x="6157800" y="213840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" name="Group 40"/>
                <p:cNvGrpSpPr/>
                <p:nvPr/>
              </p:nvGrpSpPr>
              <p:grpSpPr>
                <a:xfrm>
                  <a:off x="6157800" y="2138400"/>
                  <a:ext cx="1542960" cy="701640"/>
                  <a:chOff x="6157800" y="2138400"/>
                  <a:chExt cx="1542960" cy="701640"/>
                </a:xfrm>
              </p:grpSpPr>
              <p:sp>
                <p:nvSpPr>
                  <p:cNvPr id="159" name="Rectangle 10"/>
                  <p:cNvSpPr/>
                  <p:nvPr/>
                </p:nvSpPr>
                <p:spPr>
                  <a:xfrm>
                    <a:off x="6225840" y="213840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Rectangle 39"/>
                  <p:cNvSpPr/>
                  <p:nvPr/>
                </p:nvSpPr>
                <p:spPr>
                  <a:xfrm>
                    <a:off x="6157800" y="213840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1" name="Group 44"/>
              <p:cNvGrpSpPr/>
              <p:nvPr/>
            </p:nvGrpSpPr>
            <p:grpSpPr>
              <a:xfrm>
                <a:off x="1528560" y="2840040"/>
                <a:ext cx="1542960" cy="822240"/>
                <a:chOff x="1528560" y="2840040"/>
                <a:chExt cx="1542960" cy="822240"/>
              </a:xfrm>
            </p:grpSpPr>
            <p:sp>
              <p:nvSpPr>
                <p:cNvPr id="162" name="Rectangle 11"/>
                <p:cNvSpPr/>
                <p:nvPr/>
              </p:nvSpPr>
              <p:spPr>
                <a:xfrm>
                  <a:off x="1596960" y="284004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Rectangle 43"/>
                <p:cNvSpPr/>
                <p:nvPr/>
              </p:nvSpPr>
              <p:spPr>
                <a:xfrm>
                  <a:off x="1528560" y="284004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46"/>
              <p:cNvGrpSpPr/>
              <p:nvPr/>
            </p:nvGrpSpPr>
            <p:grpSpPr>
              <a:xfrm>
                <a:off x="3071520" y="2840040"/>
                <a:ext cx="1543320" cy="822240"/>
                <a:chOff x="3071520" y="2840040"/>
                <a:chExt cx="1543320" cy="822240"/>
              </a:xfrm>
            </p:grpSpPr>
            <p:sp>
              <p:nvSpPr>
                <p:cNvPr id="165" name="Rectangle 12"/>
                <p:cNvSpPr/>
                <p:nvPr/>
              </p:nvSpPr>
              <p:spPr>
                <a:xfrm>
                  <a:off x="3139920" y="284004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45"/>
                <p:cNvSpPr/>
                <p:nvPr/>
              </p:nvSpPr>
              <p:spPr>
                <a:xfrm>
                  <a:off x="3071520" y="284004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48"/>
              <p:cNvGrpSpPr/>
              <p:nvPr/>
            </p:nvGrpSpPr>
            <p:grpSpPr>
              <a:xfrm>
                <a:off x="4614840" y="2840040"/>
                <a:ext cx="1542960" cy="822240"/>
                <a:chOff x="4614840" y="2840040"/>
                <a:chExt cx="1542960" cy="822240"/>
              </a:xfrm>
            </p:grpSpPr>
            <p:sp>
              <p:nvSpPr>
                <p:cNvPr id="168" name="Rectangle 13"/>
                <p:cNvSpPr/>
                <p:nvPr/>
              </p:nvSpPr>
              <p:spPr>
                <a:xfrm>
                  <a:off x="4682880" y="284004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47"/>
                <p:cNvSpPr/>
                <p:nvPr/>
              </p:nvSpPr>
              <p:spPr>
                <a:xfrm>
                  <a:off x="4614840" y="284004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Group 50"/>
              <p:cNvGrpSpPr/>
              <p:nvPr/>
            </p:nvGrpSpPr>
            <p:grpSpPr>
              <a:xfrm>
                <a:off x="6157800" y="2840040"/>
                <a:ext cx="1542960" cy="822240"/>
                <a:chOff x="6157800" y="2840040"/>
                <a:chExt cx="1542960" cy="82224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6225840" y="284004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49"/>
                <p:cNvSpPr/>
                <p:nvPr/>
              </p:nvSpPr>
              <p:spPr>
                <a:xfrm>
                  <a:off x="6157800" y="284004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2"/>
              <p:cNvGrpSpPr/>
              <p:nvPr/>
            </p:nvGrpSpPr>
            <p:grpSpPr>
              <a:xfrm>
                <a:off x="1528560" y="3662280"/>
                <a:ext cx="1542960" cy="822600"/>
                <a:chOff x="1528560" y="3662280"/>
                <a:chExt cx="1542960" cy="822600"/>
              </a:xfrm>
            </p:grpSpPr>
            <p:sp>
              <p:nvSpPr>
                <p:cNvPr id="174" name="Rectangle 15"/>
                <p:cNvSpPr/>
                <p:nvPr/>
              </p:nvSpPr>
              <p:spPr>
                <a:xfrm>
                  <a:off x="1596960" y="366228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51"/>
                <p:cNvSpPr/>
                <p:nvPr/>
              </p:nvSpPr>
              <p:spPr>
                <a:xfrm>
                  <a:off x="1528560" y="366228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Group 54"/>
              <p:cNvGrpSpPr/>
              <p:nvPr/>
            </p:nvGrpSpPr>
            <p:grpSpPr>
              <a:xfrm>
                <a:off x="3071520" y="3662280"/>
                <a:ext cx="1543320" cy="822600"/>
                <a:chOff x="3071520" y="3662280"/>
                <a:chExt cx="1543320" cy="822600"/>
              </a:xfrm>
            </p:grpSpPr>
            <p:sp>
              <p:nvSpPr>
                <p:cNvPr id="177" name="Rectangle 16"/>
                <p:cNvSpPr/>
                <p:nvPr/>
              </p:nvSpPr>
              <p:spPr>
                <a:xfrm>
                  <a:off x="3139920" y="366228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Rectangle 53"/>
                <p:cNvSpPr/>
                <p:nvPr/>
              </p:nvSpPr>
              <p:spPr>
                <a:xfrm>
                  <a:off x="3071520" y="366228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56"/>
              <p:cNvGrpSpPr/>
              <p:nvPr/>
            </p:nvGrpSpPr>
            <p:grpSpPr>
              <a:xfrm>
                <a:off x="4614840" y="3662280"/>
                <a:ext cx="1542960" cy="822600"/>
                <a:chOff x="4614840" y="3662280"/>
                <a:chExt cx="1542960" cy="822600"/>
              </a:xfrm>
            </p:grpSpPr>
            <p:sp>
              <p:nvSpPr>
                <p:cNvPr id="180" name="Rectangle 17"/>
                <p:cNvSpPr/>
                <p:nvPr/>
              </p:nvSpPr>
              <p:spPr>
                <a:xfrm>
                  <a:off x="4682880" y="366228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55"/>
                <p:cNvSpPr/>
                <p:nvPr/>
              </p:nvSpPr>
              <p:spPr>
                <a:xfrm>
                  <a:off x="4614840" y="366228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8"/>
              <p:cNvGrpSpPr/>
              <p:nvPr/>
            </p:nvGrpSpPr>
            <p:grpSpPr>
              <a:xfrm>
                <a:off x="6157800" y="3662280"/>
                <a:ext cx="1542960" cy="822600"/>
                <a:chOff x="6157800" y="3662280"/>
                <a:chExt cx="1542960" cy="822600"/>
              </a:xfrm>
            </p:grpSpPr>
            <p:sp>
              <p:nvSpPr>
                <p:cNvPr id="183" name="Rectangle 18"/>
                <p:cNvSpPr/>
                <p:nvPr/>
              </p:nvSpPr>
              <p:spPr>
                <a:xfrm>
                  <a:off x="6225840" y="366228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57"/>
                <p:cNvSpPr/>
                <p:nvPr/>
              </p:nvSpPr>
              <p:spPr>
                <a:xfrm>
                  <a:off x="6157800" y="366228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60"/>
              <p:cNvGrpSpPr/>
              <p:nvPr/>
            </p:nvGrpSpPr>
            <p:grpSpPr>
              <a:xfrm>
                <a:off x="1528560" y="4484880"/>
                <a:ext cx="1542960" cy="822240"/>
                <a:chOff x="1528560" y="4484880"/>
                <a:chExt cx="1542960" cy="822240"/>
              </a:xfrm>
            </p:grpSpPr>
            <p:sp>
              <p:nvSpPr>
                <p:cNvPr id="186" name="Rectangle 19"/>
                <p:cNvSpPr/>
                <p:nvPr/>
              </p:nvSpPr>
              <p:spPr>
                <a:xfrm>
                  <a:off x="1596960" y="448488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59"/>
                <p:cNvSpPr/>
                <p:nvPr/>
              </p:nvSpPr>
              <p:spPr>
                <a:xfrm>
                  <a:off x="1528560" y="448488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62"/>
              <p:cNvGrpSpPr/>
              <p:nvPr/>
            </p:nvGrpSpPr>
            <p:grpSpPr>
              <a:xfrm>
                <a:off x="3071520" y="4484880"/>
                <a:ext cx="1543320" cy="822240"/>
                <a:chOff x="3071520" y="4484880"/>
                <a:chExt cx="1543320" cy="822240"/>
              </a:xfrm>
            </p:grpSpPr>
            <p:sp>
              <p:nvSpPr>
                <p:cNvPr id="189" name="Rectangle 20"/>
                <p:cNvSpPr/>
                <p:nvPr/>
              </p:nvSpPr>
              <p:spPr>
                <a:xfrm>
                  <a:off x="3139920" y="448488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61"/>
                <p:cNvSpPr/>
                <p:nvPr/>
              </p:nvSpPr>
              <p:spPr>
                <a:xfrm>
                  <a:off x="3071520" y="448488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64"/>
              <p:cNvGrpSpPr/>
              <p:nvPr/>
            </p:nvGrpSpPr>
            <p:grpSpPr>
              <a:xfrm>
                <a:off x="4614840" y="4484880"/>
                <a:ext cx="1542960" cy="822240"/>
                <a:chOff x="4614840" y="4484880"/>
                <a:chExt cx="1542960" cy="822240"/>
              </a:xfrm>
            </p:grpSpPr>
            <p:sp>
              <p:nvSpPr>
                <p:cNvPr id="192" name="Rectangle 21"/>
                <p:cNvSpPr/>
                <p:nvPr/>
              </p:nvSpPr>
              <p:spPr>
                <a:xfrm>
                  <a:off x="4682880" y="448488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63"/>
                <p:cNvSpPr/>
                <p:nvPr/>
              </p:nvSpPr>
              <p:spPr>
                <a:xfrm>
                  <a:off x="4614840" y="448488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6"/>
              <p:cNvGrpSpPr/>
              <p:nvPr/>
            </p:nvGrpSpPr>
            <p:grpSpPr>
              <a:xfrm>
                <a:off x="6157800" y="4484880"/>
                <a:ext cx="1542960" cy="822240"/>
                <a:chOff x="6157800" y="4484880"/>
                <a:chExt cx="1542960" cy="822240"/>
              </a:xfrm>
            </p:grpSpPr>
            <p:sp>
              <p:nvSpPr>
                <p:cNvPr id="195" name="Rectangle 22"/>
                <p:cNvSpPr/>
                <p:nvPr/>
              </p:nvSpPr>
              <p:spPr>
                <a:xfrm>
                  <a:off x="6225840" y="448488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65"/>
                <p:cNvSpPr/>
                <p:nvPr/>
              </p:nvSpPr>
              <p:spPr>
                <a:xfrm>
                  <a:off x="6157800" y="448488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68"/>
              <p:cNvGrpSpPr/>
              <p:nvPr/>
            </p:nvGrpSpPr>
            <p:grpSpPr>
              <a:xfrm>
                <a:off x="1528560" y="5307120"/>
                <a:ext cx="1542960" cy="822240"/>
                <a:chOff x="1528560" y="5307120"/>
                <a:chExt cx="1542960" cy="822240"/>
              </a:xfrm>
            </p:grpSpPr>
            <p:sp>
              <p:nvSpPr>
                <p:cNvPr id="198" name="Rectangle 23"/>
                <p:cNvSpPr/>
                <p:nvPr/>
              </p:nvSpPr>
              <p:spPr>
                <a:xfrm>
                  <a:off x="1596960" y="53071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67"/>
                <p:cNvSpPr/>
                <p:nvPr/>
              </p:nvSpPr>
              <p:spPr>
                <a:xfrm>
                  <a:off x="1528560" y="53071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70"/>
              <p:cNvGrpSpPr/>
              <p:nvPr/>
            </p:nvGrpSpPr>
            <p:grpSpPr>
              <a:xfrm>
                <a:off x="3071520" y="5307120"/>
                <a:ext cx="1543320" cy="822240"/>
                <a:chOff x="3071520" y="5307120"/>
                <a:chExt cx="1543320" cy="822240"/>
              </a:xfrm>
            </p:grpSpPr>
            <p:sp>
              <p:nvSpPr>
                <p:cNvPr id="201" name="Rectangle 24"/>
                <p:cNvSpPr/>
                <p:nvPr/>
              </p:nvSpPr>
              <p:spPr>
                <a:xfrm>
                  <a:off x="3139920" y="53071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69"/>
                <p:cNvSpPr/>
                <p:nvPr/>
              </p:nvSpPr>
              <p:spPr>
                <a:xfrm>
                  <a:off x="3071520" y="53071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2"/>
              <p:cNvGrpSpPr/>
              <p:nvPr/>
            </p:nvGrpSpPr>
            <p:grpSpPr>
              <a:xfrm>
                <a:off x="4614840" y="5307120"/>
                <a:ext cx="1542960" cy="822240"/>
                <a:chOff x="4614840" y="5307120"/>
                <a:chExt cx="1542960" cy="822240"/>
              </a:xfrm>
            </p:grpSpPr>
            <p:sp>
              <p:nvSpPr>
                <p:cNvPr id="204" name="Rectangle 25"/>
                <p:cNvSpPr/>
                <p:nvPr/>
              </p:nvSpPr>
              <p:spPr>
                <a:xfrm>
                  <a:off x="4682880" y="53071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71"/>
                <p:cNvSpPr/>
                <p:nvPr/>
              </p:nvSpPr>
              <p:spPr>
                <a:xfrm>
                  <a:off x="4614840" y="53071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74"/>
              <p:cNvGrpSpPr/>
              <p:nvPr/>
            </p:nvGrpSpPr>
            <p:grpSpPr>
              <a:xfrm>
                <a:off x="6157800" y="5307120"/>
                <a:ext cx="1542960" cy="822240"/>
                <a:chOff x="6157800" y="5307120"/>
                <a:chExt cx="1542960" cy="822240"/>
              </a:xfrm>
            </p:grpSpPr>
            <p:sp>
              <p:nvSpPr>
                <p:cNvPr id="207" name="Rectangle 26"/>
                <p:cNvSpPr/>
                <p:nvPr/>
              </p:nvSpPr>
              <p:spPr>
                <a:xfrm>
                  <a:off x="6225840" y="53071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73"/>
                <p:cNvSpPr/>
                <p:nvPr/>
              </p:nvSpPr>
              <p:spPr>
                <a:xfrm>
                  <a:off x="6157800" y="53071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9" name="Rectangle 76"/>
            <p:cNvSpPr/>
            <p:nvPr/>
          </p:nvSpPr>
          <p:spPr>
            <a:xfrm>
              <a:off x="1523880" y="213372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3200400" y="2438280"/>
          <a:ext cx="328284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438280"/>
                    <a:ext cx="328284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74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215" name="Group 75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216" name="Group 76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217" name="Rectangle 77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Group 78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219" name="Rectangle 79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Rectangle 80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Group 81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222" name="Rectangle 82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Group 83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224" name="Rectangle 84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Rectangle 85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" name="Group 86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227" name="Rectangle 87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Group 88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229" name="Rectangle 89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Rectangle 90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" name="Group 91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232" name="Rectangle 92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Group 93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234" name="Rectangle 94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Rectangle 95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6" name="Group 96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237" name="Rectangle 97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98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99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240" name="Rectangle 100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101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02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243" name="Rectangle 103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04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05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246" name="Rectangle 106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07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08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249" name="Rectangle 109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10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111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252" name="Rectangle 112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113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114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255" name="Rectangle 115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116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17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258" name="Rectangle 118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9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120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261" name="Rectangle 121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122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123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264" name="Rectangle 124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125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126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267" name="Rectangle 127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128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129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270" name="Rectangle 130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131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132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273" name="Rectangle 133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134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135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276" name="Rectangle 136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137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138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279" name="Rectangle 139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140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141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282" name="Rectangle 142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143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4" name="Rectangle 144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287" name="Group 4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288" name="Group 5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289" name="Rectangle 6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Group 7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291" name="Rectangle 8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Rectangle 9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" name="Group 10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294" name="Rectangle 11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Group 12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296" name="Rectangle 13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Rectangle 14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" name="Group 15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299" name="Rectangle 16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" name="Group 17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301" name="Rectangle 18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Rectangle 19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Group 20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304" name="Rectangle 21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Group 22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306" name="Rectangle 23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Rectangle 24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" name="Group 25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309" name="Rectangle 26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27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28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312" name="Rectangle 29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0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31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315" name="Rectangle 32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33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34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318" name="Rectangle 35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36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37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321" name="Rectangle 38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B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entif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cri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p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Rectangle 39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40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324" name="Rectangle 41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iangles, rectangles, squares and circ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ces of 3 dimensional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42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43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327" name="Rectangle 44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45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46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330" name="Rectangle 47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48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49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333" name="Rectangle 50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Rectangle 51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Group 52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336" name="Rectangle 53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Rectangle 54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55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339" name="Rectangle 56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57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8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342" name="Rectangle 59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60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Group 61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345" name="Rectangle 62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63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Group 64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348" name="Rectangle 65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66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67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351" name="Rectangle 68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69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70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354" name="Rectangle 71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72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Rectangle 73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359" name="Group 4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360" name="Group 5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361" name="Rectangle 6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" name="Group 7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363" name="Rectangle 8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Rectangle 9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5" name="Group 10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366" name="Rectangle 11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Group 12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368" name="Rectangle 13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Rectangle 14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0" name="Group 15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371" name="Rectangle 16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Group 17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373" name="Rectangle 18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Rectangle 19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Group 20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376" name="Rectangle 21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Group 22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378" name="Rectangle 23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Rectangle 24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Group 25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381" name="Rectangle 26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27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8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384" name="Rectangle 29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30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31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387" name="Rectangle 32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33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34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390" name="Rectangle 35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36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37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393" name="Rectangle 38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B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entif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cri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p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39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Group 40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396" name="Rectangle 41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iangles, rectangles, squares and circ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ces of 3 dimensional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Rectangle 42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Group 43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399" name="Rectangle 44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Rectangle 45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Group 46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402" name="Rectangle 47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48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49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405" name="Rectangle 50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 to Solve Proble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51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Group 52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408" name="Rectangle 53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mplimentary and Supplementary angles of a triang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54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55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411" name="Rectangle 56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57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58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414" name="Rectangle 59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60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61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417" name="Rectangle 62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63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64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420" name="Rectangle 65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66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67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423" name="Rectangle 68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69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70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426" name="Rectangle 71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72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Rectangle 73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431" name="Group 4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432" name="Group 5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433" name="Rectangle 6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Group 7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435" name="Rectangle 8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Rectangle 9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" name="Group 10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438" name="Rectangle 11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Group 12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440" name="Rectangle 13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Rectangle 14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Group 15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443" name="Rectangle 16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" name="Group 17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445" name="Rectangle 18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19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7" name="Group 20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448" name="Rectangle 21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9" name="Group 22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450" name="Rectangle 23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Rectangle 24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2" name="Group 25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453" name="Rectangle 26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27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28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456" name="Rectangle 29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30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31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459" name="Rectangle 32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33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Group 34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462" name="Rectangle 35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Rectangle 36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37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465" name="Rectangle 38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B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entif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cri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p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39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Group 40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468" name="Rectangle 41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iangles, rectangles, squares and circ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ces of 3 dimensional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42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Group 43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471" name="Rectangle 44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Rectangle 45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Group 46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474" name="Rectangle 47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Rectangle 48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Group 49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477" name="Rectangle 50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 to Solve Proble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Rectangle 51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Group 52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480" name="Rectangle 53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mplimentary and Supplementary angles of a triang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Rectangle 54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Group 55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483" name="Rectangle 56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Rectangle 57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58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486" name="Rectangle 59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60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Group 61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489" name="Rectangle 62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D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ormula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ystematically Coll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pres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Rectangle 63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64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492" name="Rectangle 65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ues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On a number line, coordinate graph,, tables and char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Rectangle 66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Group 67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495" name="Rectangle 68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atistics, Data Analysis, and Proba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Rectangle 69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Group 70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498" name="Rectangle 71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Rectangle 72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" name="Rectangle 73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ing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523880" y="2057400"/>
            <a:ext cx="6181560" cy="4000320"/>
            <a:chOff x="1523880" y="2057400"/>
            <a:chExt cx="6181560" cy="4000320"/>
          </a:xfrm>
        </p:grpSpPr>
        <p:grpSp>
          <p:nvGrpSpPr>
            <p:cNvPr id="503" name="Group 4"/>
            <p:cNvGrpSpPr/>
            <p:nvPr/>
          </p:nvGrpSpPr>
          <p:grpSpPr>
            <a:xfrm>
              <a:off x="1528560" y="2062080"/>
              <a:ext cx="6172200" cy="3990960"/>
              <a:chOff x="1528560" y="2062080"/>
              <a:chExt cx="6172200" cy="3990960"/>
            </a:xfrm>
          </p:grpSpPr>
          <p:grpSp>
            <p:nvGrpSpPr>
              <p:cNvPr id="504" name="Group 5"/>
              <p:cNvGrpSpPr/>
              <p:nvPr/>
            </p:nvGrpSpPr>
            <p:grpSpPr>
              <a:xfrm>
                <a:off x="1528560" y="2062080"/>
                <a:ext cx="1542960" cy="701640"/>
                <a:chOff x="1528560" y="2062080"/>
                <a:chExt cx="1542960" cy="701640"/>
              </a:xfrm>
            </p:grpSpPr>
            <p:sp>
              <p:nvSpPr>
                <p:cNvPr id="505" name="Rectangle 6"/>
                <p:cNvSpPr/>
                <p:nvPr/>
              </p:nvSpPr>
              <p:spPr>
                <a:xfrm>
                  <a:off x="152856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" name="Group 7"/>
                <p:cNvGrpSpPr/>
                <p:nvPr/>
              </p:nvGrpSpPr>
              <p:grpSpPr>
                <a:xfrm>
                  <a:off x="1528560" y="2062080"/>
                  <a:ext cx="1542960" cy="701640"/>
                  <a:chOff x="1528560" y="2062080"/>
                  <a:chExt cx="1542960" cy="701640"/>
                </a:xfrm>
              </p:grpSpPr>
              <p:sp>
                <p:nvSpPr>
                  <p:cNvPr id="507" name="Rectangle 8"/>
                  <p:cNvSpPr/>
                  <p:nvPr/>
                </p:nvSpPr>
                <p:spPr>
                  <a:xfrm>
                    <a:off x="159696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kill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verb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9"/>
                  <p:cNvSpPr/>
                  <p:nvPr/>
                </p:nvSpPr>
                <p:spPr>
                  <a:xfrm>
                    <a:off x="152856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9" name="Group 10"/>
              <p:cNvGrpSpPr/>
              <p:nvPr/>
            </p:nvGrpSpPr>
            <p:grpSpPr>
              <a:xfrm>
                <a:off x="3071520" y="2062080"/>
                <a:ext cx="1543320" cy="701640"/>
                <a:chOff x="3071520" y="2062080"/>
                <a:chExt cx="1543320" cy="701640"/>
              </a:xfrm>
            </p:grpSpPr>
            <p:sp>
              <p:nvSpPr>
                <p:cNvPr id="510" name="Rectangle 11"/>
                <p:cNvSpPr/>
                <p:nvPr/>
              </p:nvSpPr>
              <p:spPr>
                <a:xfrm>
                  <a:off x="3071520" y="2062080"/>
                  <a:ext cx="154332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Group 12"/>
                <p:cNvGrpSpPr/>
                <p:nvPr/>
              </p:nvGrpSpPr>
              <p:grpSpPr>
                <a:xfrm>
                  <a:off x="3071520" y="2062080"/>
                  <a:ext cx="1543320" cy="701640"/>
                  <a:chOff x="3071520" y="2062080"/>
                  <a:chExt cx="1543320" cy="701640"/>
                </a:xfrm>
              </p:grpSpPr>
              <p:sp>
                <p:nvSpPr>
                  <p:cNvPr id="512" name="Rectangle 13"/>
                  <p:cNvSpPr/>
                  <p:nvPr/>
                </p:nvSpPr>
                <p:spPr>
                  <a:xfrm>
                    <a:off x="313992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nten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nou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Rectangle 14"/>
                  <p:cNvSpPr/>
                  <p:nvPr/>
                </p:nvSpPr>
                <p:spPr>
                  <a:xfrm>
                    <a:off x="3071520" y="2062080"/>
                    <a:ext cx="154332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4" name="Group 15"/>
              <p:cNvGrpSpPr/>
              <p:nvPr/>
            </p:nvGrpSpPr>
            <p:grpSpPr>
              <a:xfrm>
                <a:off x="4614840" y="2062080"/>
                <a:ext cx="1542960" cy="701640"/>
                <a:chOff x="4614840" y="2062080"/>
                <a:chExt cx="1542960" cy="701640"/>
              </a:xfrm>
            </p:grpSpPr>
            <p:sp>
              <p:nvSpPr>
                <p:cNvPr id="515" name="Rectangle 16"/>
                <p:cNvSpPr/>
                <p:nvPr/>
              </p:nvSpPr>
              <p:spPr>
                <a:xfrm>
                  <a:off x="461484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6" name="Group 17"/>
                <p:cNvGrpSpPr/>
                <p:nvPr/>
              </p:nvGrpSpPr>
              <p:grpSpPr>
                <a:xfrm>
                  <a:off x="4614840" y="2062080"/>
                  <a:ext cx="1542960" cy="701640"/>
                  <a:chOff x="4614840" y="2062080"/>
                  <a:chExt cx="1542960" cy="701640"/>
                </a:xfrm>
              </p:grpSpPr>
              <p:sp>
                <p:nvSpPr>
                  <p:cNvPr id="517" name="Rectangle 18"/>
                  <p:cNvSpPr/>
                  <p:nvPr/>
                </p:nvSpPr>
                <p:spPr>
                  <a:xfrm>
                    <a:off x="468288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ran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Rectangle 19"/>
                  <p:cNvSpPr/>
                  <p:nvPr/>
                </p:nvSpPr>
                <p:spPr>
                  <a:xfrm>
                    <a:off x="461484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9" name="Group 20"/>
              <p:cNvGrpSpPr/>
              <p:nvPr/>
            </p:nvGrpSpPr>
            <p:grpSpPr>
              <a:xfrm>
                <a:off x="6157800" y="2062080"/>
                <a:ext cx="1542960" cy="701640"/>
                <a:chOff x="6157800" y="2062080"/>
                <a:chExt cx="1542960" cy="701640"/>
              </a:xfrm>
            </p:grpSpPr>
            <p:sp>
              <p:nvSpPr>
                <p:cNvPr id="520" name="Rectangle 21"/>
                <p:cNvSpPr/>
                <p:nvPr/>
              </p:nvSpPr>
              <p:spPr>
                <a:xfrm>
                  <a:off x="6157800" y="2062080"/>
                  <a:ext cx="1542960" cy="701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Group 22"/>
                <p:cNvGrpSpPr/>
                <p:nvPr/>
              </p:nvGrpSpPr>
              <p:grpSpPr>
                <a:xfrm>
                  <a:off x="6157800" y="2062080"/>
                  <a:ext cx="1542960" cy="701640"/>
                  <a:chOff x="6157800" y="2062080"/>
                  <a:chExt cx="1542960" cy="701640"/>
                </a:xfrm>
              </p:grpSpPr>
              <p:sp>
                <p:nvSpPr>
                  <p:cNvPr id="522" name="Rectangle 23"/>
                  <p:cNvSpPr/>
                  <p:nvPr/>
                </p:nvSpPr>
                <p:spPr>
                  <a:xfrm>
                    <a:off x="6225840" y="2062080"/>
                    <a:ext cx="1406520" cy="701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rade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24"/>
                  <p:cNvSpPr/>
                  <p:nvPr/>
                </p:nvSpPr>
                <p:spPr>
                  <a:xfrm>
                    <a:off x="6157800" y="2062080"/>
                    <a:ext cx="1542960" cy="7016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4" name="Group 25"/>
              <p:cNvGrpSpPr/>
              <p:nvPr/>
            </p:nvGrpSpPr>
            <p:grpSpPr>
              <a:xfrm>
                <a:off x="1528560" y="2763720"/>
                <a:ext cx="1542960" cy="822240"/>
                <a:chOff x="1528560" y="2763720"/>
                <a:chExt cx="1542960" cy="822240"/>
              </a:xfrm>
            </p:grpSpPr>
            <p:sp>
              <p:nvSpPr>
                <p:cNvPr id="525" name="Rectangle 26"/>
                <p:cNvSpPr/>
                <p:nvPr/>
              </p:nvSpPr>
              <p:spPr>
                <a:xfrm>
                  <a:off x="159696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A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now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Rectangle 27"/>
                <p:cNvSpPr/>
                <p:nvPr/>
              </p:nvSpPr>
              <p:spPr>
                <a:xfrm>
                  <a:off x="152856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Group 28"/>
              <p:cNvGrpSpPr/>
              <p:nvPr/>
            </p:nvGrpSpPr>
            <p:grpSpPr>
              <a:xfrm>
                <a:off x="3071520" y="2763720"/>
                <a:ext cx="1543320" cy="822240"/>
                <a:chOff x="3071520" y="2763720"/>
                <a:chExt cx="1543320" cy="822240"/>
              </a:xfrm>
            </p:grpSpPr>
            <p:sp>
              <p:nvSpPr>
                <p:cNvPr id="528" name="Rectangle 29"/>
                <p:cNvSpPr/>
                <p:nvPr/>
              </p:nvSpPr>
              <p:spPr>
                <a:xfrm>
                  <a:off x="313992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cimal no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llar and cents symb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Rectangle 30"/>
                <p:cNvSpPr/>
                <p:nvPr/>
              </p:nvSpPr>
              <p:spPr>
                <a:xfrm>
                  <a:off x="3071520" y="276372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Group 31"/>
              <p:cNvGrpSpPr/>
              <p:nvPr/>
            </p:nvGrpSpPr>
            <p:grpSpPr>
              <a:xfrm>
                <a:off x="4614840" y="2763720"/>
                <a:ext cx="1542960" cy="822240"/>
                <a:chOff x="4614840" y="2763720"/>
                <a:chExt cx="1542960" cy="822240"/>
              </a:xfrm>
            </p:grpSpPr>
            <p:sp>
              <p:nvSpPr>
                <p:cNvPr id="531" name="Rectangle 32"/>
                <p:cNvSpPr/>
                <p:nvPr/>
              </p:nvSpPr>
              <p:spPr>
                <a:xfrm>
                  <a:off x="468288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umber S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Rectangle 33"/>
                <p:cNvSpPr/>
                <p:nvPr/>
              </p:nvSpPr>
              <p:spPr>
                <a:xfrm>
                  <a:off x="461484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Group 34"/>
              <p:cNvGrpSpPr/>
              <p:nvPr/>
            </p:nvGrpSpPr>
            <p:grpSpPr>
              <a:xfrm>
                <a:off x="6157800" y="2763720"/>
                <a:ext cx="1542960" cy="822240"/>
                <a:chOff x="6157800" y="2763720"/>
                <a:chExt cx="1542960" cy="822240"/>
              </a:xfrm>
            </p:grpSpPr>
            <p:sp>
              <p:nvSpPr>
                <p:cNvPr id="534" name="Rectangle 35"/>
                <p:cNvSpPr/>
                <p:nvPr/>
              </p:nvSpPr>
              <p:spPr>
                <a:xfrm>
                  <a:off x="6225840" y="276372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36"/>
                <p:cNvSpPr/>
                <p:nvPr/>
              </p:nvSpPr>
              <p:spPr>
                <a:xfrm>
                  <a:off x="6157800" y="276372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37"/>
              <p:cNvGrpSpPr/>
              <p:nvPr/>
            </p:nvGrpSpPr>
            <p:grpSpPr>
              <a:xfrm>
                <a:off x="1528560" y="3585960"/>
                <a:ext cx="1542960" cy="822600"/>
                <a:chOff x="1528560" y="3585960"/>
                <a:chExt cx="1542960" cy="822600"/>
              </a:xfrm>
            </p:grpSpPr>
            <p:sp>
              <p:nvSpPr>
                <p:cNvPr id="537" name="Rectangle 38"/>
                <p:cNvSpPr/>
                <p:nvPr/>
              </p:nvSpPr>
              <p:spPr>
                <a:xfrm>
                  <a:off x="159696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B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entif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scrib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p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Rectangle 39"/>
                <p:cNvSpPr/>
                <p:nvPr/>
              </p:nvSpPr>
              <p:spPr>
                <a:xfrm>
                  <a:off x="152856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Group 40"/>
              <p:cNvGrpSpPr/>
              <p:nvPr/>
            </p:nvGrpSpPr>
            <p:grpSpPr>
              <a:xfrm>
                <a:off x="3071520" y="3585960"/>
                <a:ext cx="1543320" cy="822600"/>
                <a:chOff x="3071520" y="3585960"/>
                <a:chExt cx="1543320" cy="822600"/>
              </a:xfrm>
            </p:grpSpPr>
            <p:sp>
              <p:nvSpPr>
                <p:cNvPr id="540" name="Rectangle 41"/>
                <p:cNvSpPr/>
                <p:nvPr/>
              </p:nvSpPr>
              <p:spPr>
                <a:xfrm>
                  <a:off x="313992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iangles, rectangles, squares and circ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aces of 3 dimensional objec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Rectangle 42"/>
                <p:cNvSpPr/>
                <p:nvPr/>
              </p:nvSpPr>
              <p:spPr>
                <a:xfrm>
                  <a:off x="3071520" y="3585960"/>
                  <a:ext cx="154332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Group 43"/>
              <p:cNvGrpSpPr/>
              <p:nvPr/>
            </p:nvGrpSpPr>
            <p:grpSpPr>
              <a:xfrm>
                <a:off x="4614840" y="3585960"/>
                <a:ext cx="1542960" cy="822600"/>
                <a:chOff x="4614840" y="3585960"/>
                <a:chExt cx="1542960" cy="822600"/>
              </a:xfrm>
            </p:grpSpPr>
            <p:sp>
              <p:nvSpPr>
                <p:cNvPr id="543" name="Rectangle 44"/>
                <p:cNvSpPr/>
                <p:nvPr/>
              </p:nvSpPr>
              <p:spPr>
                <a:xfrm>
                  <a:off x="468288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Rectangle 45"/>
                <p:cNvSpPr/>
                <p:nvPr/>
              </p:nvSpPr>
              <p:spPr>
                <a:xfrm>
                  <a:off x="461484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Group 46"/>
              <p:cNvGrpSpPr/>
              <p:nvPr/>
            </p:nvGrpSpPr>
            <p:grpSpPr>
              <a:xfrm>
                <a:off x="6157800" y="3585960"/>
                <a:ext cx="1542960" cy="822600"/>
                <a:chOff x="6157800" y="3585960"/>
                <a:chExt cx="1542960" cy="822600"/>
              </a:xfrm>
            </p:grpSpPr>
            <p:sp>
              <p:nvSpPr>
                <p:cNvPr id="546" name="Rectangle 47"/>
                <p:cNvSpPr/>
                <p:nvPr/>
              </p:nvSpPr>
              <p:spPr>
                <a:xfrm>
                  <a:off x="6225840" y="3585960"/>
                  <a:ext cx="14065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s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Rectangle 48"/>
                <p:cNvSpPr/>
                <p:nvPr/>
              </p:nvSpPr>
              <p:spPr>
                <a:xfrm>
                  <a:off x="6157800" y="3585960"/>
                  <a:ext cx="1542960" cy="822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Group 49"/>
              <p:cNvGrpSpPr/>
              <p:nvPr/>
            </p:nvGrpSpPr>
            <p:grpSpPr>
              <a:xfrm>
                <a:off x="1528560" y="4408560"/>
                <a:ext cx="1542960" cy="822240"/>
                <a:chOff x="1528560" y="4408560"/>
                <a:chExt cx="1542960" cy="822240"/>
              </a:xfrm>
            </p:grpSpPr>
            <p:sp>
              <p:nvSpPr>
                <p:cNvPr id="549" name="Rectangle 50"/>
                <p:cNvSpPr/>
                <p:nvPr/>
              </p:nvSpPr>
              <p:spPr>
                <a:xfrm>
                  <a:off x="159696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Use to Solve Proble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Rectangle 51"/>
                <p:cNvSpPr/>
                <p:nvPr/>
              </p:nvSpPr>
              <p:spPr>
                <a:xfrm>
                  <a:off x="152856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Group 52"/>
              <p:cNvGrpSpPr/>
              <p:nvPr/>
            </p:nvGrpSpPr>
            <p:grpSpPr>
              <a:xfrm>
                <a:off x="3071520" y="4408560"/>
                <a:ext cx="1543320" cy="822240"/>
                <a:chOff x="3071520" y="4408560"/>
                <a:chExt cx="1543320" cy="822240"/>
              </a:xfrm>
            </p:grpSpPr>
            <p:sp>
              <p:nvSpPr>
                <p:cNvPr id="552" name="Rectangle 53"/>
                <p:cNvSpPr/>
                <p:nvPr/>
              </p:nvSpPr>
              <p:spPr>
                <a:xfrm>
                  <a:off x="313992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mplimentary and Supplementary angles of a triang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Rectangle 54"/>
                <p:cNvSpPr/>
                <p:nvPr/>
              </p:nvSpPr>
              <p:spPr>
                <a:xfrm>
                  <a:off x="3071520" y="440856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55"/>
              <p:cNvGrpSpPr/>
              <p:nvPr/>
            </p:nvGrpSpPr>
            <p:grpSpPr>
              <a:xfrm>
                <a:off x="4614840" y="4408560"/>
                <a:ext cx="1542960" cy="822240"/>
                <a:chOff x="4614840" y="4408560"/>
                <a:chExt cx="1542960" cy="822240"/>
              </a:xfrm>
            </p:grpSpPr>
            <p:sp>
              <p:nvSpPr>
                <p:cNvPr id="555" name="Rectangle 56"/>
                <p:cNvSpPr/>
                <p:nvPr/>
              </p:nvSpPr>
              <p:spPr>
                <a:xfrm>
                  <a:off x="468288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easurement and Geome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Rectangle 57"/>
                <p:cNvSpPr/>
                <p:nvPr/>
              </p:nvSpPr>
              <p:spPr>
                <a:xfrm>
                  <a:off x="461484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Group 58"/>
              <p:cNvGrpSpPr/>
              <p:nvPr/>
            </p:nvGrpSpPr>
            <p:grpSpPr>
              <a:xfrm>
                <a:off x="6157800" y="4408560"/>
                <a:ext cx="1542960" cy="822240"/>
                <a:chOff x="6157800" y="4408560"/>
                <a:chExt cx="1542960" cy="822240"/>
              </a:xfrm>
            </p:grpSpPr>
            <p:sp>
              <p:nvSpPr>
                <p:cNvPr id="558" name="Rectangle 59"/>
                <p:cNvSpPr/>
                <p:nvPr/>
              </p:nvSpPr>
              <p:spPr>
                <a:xfrm>
                  <a:off x="6225840" y="440856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Rectangle 60"/>
                <p:cNvSpPr/>
                <p:nvPr/>
              </p:nvSpPr>
              <p:spPr>
                <a:xfrm>
                  <a:off x="6157800" y="440856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Group 61"/>
              <p:cNvGrpSpPr/>
              <p:nvPr/>
            </p:nvGrpSpPr>
            <p:grpSpPr>
              <a:xfrm>
                <a:off x="1528560" y="5230800"/>
                <a:ext cx="1542960" cy="822240"/>
                <a:chOff x="1528560" y="5230800"/>
                <a:chExt cx="1542960" cy="822240"/>
              </a:xfrm>
            </p:grpSpPr>
            <p:sp>
              <p:nvSpPr>
                <p:cNvPr id="561" name="Rectangle 62"/>
                <p:cNvSpPr/>
                <p:nvPr/>
              </p:nvSpPr>
              <p:spPr>
                <a:xfrm>
                  <a:off x="159696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D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Formulat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ystematically Collec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pres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Rectangle 63"/>
                <p:cNvSpPr/>
                <p:nvPr/>
              </p:nvSpPr>
              <p:spPr>
                <a:xfrm>
                  <a:off x="152856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64"/>
              <p:cNvGrpSpPr/>
              <p:nvPr/>
            </p:nvGrpSpPr>
            <p:grpSpPr>
              <a:xfrm>
                <a:off x="3071520" y="5230800"/>
                <a:ext cx="1543320" cy="822240"/>
                <a:chOff x="3071520" y="5230800"/>
                <a:chExt cx="1543320" cy="822240"/>
              </a:xfrm>
            </p:grpSpPr>
            <p:sp>
              <p:nvSpPr>
                <p:cNvPr id="564" name="Rectangle 65"/>
                <p:cNvSpPr/>
                <p:nvPr/>
              </p:nvSpPr>
              <p:spPr>
                <a:xfrm>
                  <a:off x="313992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uestion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On a number line, coordinate graph,, tables and char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Rectangle 66"/>
                <p:cNvSpPr/>
                <p:nvPr/>
              </p:nvSpPr>
              <p:spPr>
                <a:xfrm>
                  <a:off x="3071520" y="5230800"/>
                  <a:ext cx="154332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67"/>
              <p:cNvGrpSpPr/>
              <p:nvPr/>
            </p:nvGrpSpPr>
            <p:grpSpPr>
              <a:xfrm>
                <a:off x="4614840" y="5230800"/>
                <a:ext cx="1542960" cy="822240"/>
                <a:chOff x="4614840" y="5230800"/>
                <a:chExt cx="1542960" cy="822240"/>
              </a:xfrm>
            </p:grpSpPr>
            <p:sp>
              <p:nvSpPr>
                <p:cNvPr id="567" name="Rectangle 68"/>
                <p:cNvSpPr/>
                <p:nvPr/>
              </p:nvSpPr>
              <p:spPr>
                <a:xfrm>
                  <a:off x="468288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atistics, Data Analysis, and Proba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Rectangle 69"/>
                <p:cNvSpPr/>
                <p:nvPr/>
              </p:nvSpPr>
              <p:spPr>
                <a:xfrm>
                  <a:off x="461484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70"/>
              <p:cNvGrpSpPr/>
              <p:nvPr/>
            </p:nvGrpSpPr>
            <p:grpSpPr>
              <a:xfrm>
                <a:off x="6157800" y="5230800"/>
                <a:ext cx="1542960" cy="822240"/>
                <a:chOff x="6157800" y="5230800"/>
                <a:chExt cx="1542960" cy="822240"/>
              </a:xfrm>
            </p:grpSpPr>
            <p:sp>
              <p:nvSpPr>
                <p:cNvPr id="570" name="Rectangle 71"/>
                <p:cNvSpPr/>
                <p:nvPr/>
              </p:nvSpPr>
              <p:spPr>
                <a:xfrm>
                  <a:off x="6225840" y="5230800"/>
                  <a:ext cx="14065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Rectangle 72"/>
                <p:cNvSpPr/>
                <p:nvPr/>
              </p:nvSpPr>
              <p:spPr>
                <a:xfrm>
                  <a:off x="6157800" y="5230800"/>
                  <a:ext cx="1542960" cy="8222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2" name="Rectangle 73"/>
            <p:cNvSpPr/>
            <p:nvPr/>
          </p:nvSpPr>
          <p:spPr>
            <a:xfrm>
              <a:off x="1523880" y="2057400"/>
              <a:ext cx="6181560" cy="40003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oking for Patterns across grade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5"/>
          <p:cNvSpPr/>
          <p:nvPr/>
        </p:nvSpPr>
        <p:spPr>
          <a:xfrm>
            <a:off x="5943600" y="1981080"/>
            <a:ext cx="0" cy="4496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6"/>
          <p:cNvSpPr/>
          <p:nvPr/>
        </p:nvSpPr>
        <p:spPr>
          <a:xfrm>
            <a:off x="5410080" y="647712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7"/>
          <p:cNvSpPr/>
          <p:nvPr/>
        </p:nvSpPr>
        <p:spPr>
          <a:xfrm>
            <a:off x="5410080" y="594360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8"/>
          <p:cNvSpPr/>
          <p:nvPr/>
        </p:nvSpPr>
        <p:spPr>
          <a:xfrm>
            <a:off x="5410080" y="541008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9"/>
          <p:cNvSpPr/>
          <p:nvPr/>
        </p:nvSpPr>
        <p:spPr>
          <a:xfrm>
            <a:off x="5410080" y="198108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0"/>
          <p:cNvSpPr/>
          <p:nvPr/>
        </p:nvSpPr>
        <p:spPr>
          <a:xfrm>
            <a:off x="5410080" y="266688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1"/>
          <p:cNvSpPr/>
          <p:nvPr/>
        </p:nvSpPr>
        <p:spPr>
          <a:xfrm>
            <a:off x="5410080" y="358128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2"/>
          <p:cNvSpPr/>
          <p:nvPr/>
        </p:nvSpPr>
        <p:spPr>
          <a:xfrm>
            <a:off x="5410080" y="4343400"/>
            <a:ext cx="990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1"/>
          <p:cNvSpPr/>
          <p:nvPr/>
        </p:nvSpPr>
        <p:spPr>
          <a:xfrm>
            <a:off x="4495680" y="1752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5b46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6c4"/>
                </a:solidFill>
                <a:latin typeface="Times New Roman"/>
              </a:rPr>
              <a:t>What’s simil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’s Differ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b46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6c4"/>
                </a:solidFill>
                <a:latin typeface="Times New Roman"/>
              </a:rPr>
              <a:t>In What Grades does this Strand Va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brating  Work S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2" descr="pe03254_"/>
          <p:cNvPicPr/>
          <p:nvPr/>
        </p:nvPicPr>
        <p:blipFill>
          <a:blip r:embed="rId2"/>
          <a:stretch/>
        </p:blipFill>
        <p:spPr>
          <a:xfrm>
            <a:off x="2590920" y="1806480"/>
            <a:ext cx="441936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6c4"/>
                </a:solidFill>
                <a:latin typeface="Times New Roman"/>
              </a:rPr>
              <a:t>Sample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= 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and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Standard or Partia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you h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principal said I have to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November, I really just needed to get away from the school for an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always know there are good treats at the ES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haven’t seen my colleagues from other schools in a w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might lear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ood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ally, really, really want to learn about Curriculum Alignment and how to calibrate work s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6c4"/>
                </a:solidFill>
                <a:latin typeface="Times New Roman"/>
              </a:rPr>
              <a:t>Sample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= 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Standard or Partia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6c4"/>
                </a:solidFill>
                <a:latin typeface="Times New Roman"/>
              </a:rPr>
              <a:t>Sample 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– Came from a first grade practic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= 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and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metry doesn’t appear until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uestion: Is this a necessary prerequisite to a grade level skill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6c4"/>
                </a:solidFill>
                <a:latin typeface="Times New Roman"/>
              </a:rPr>
              <a:t>Sample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– Came from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 Practic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= 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s, Data, and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 of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Grade Level Standard! So, Question: Is this a necessary prerequisite to a grade level sk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Goal =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90% of assignments align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Object 4"/>
          <p:cNvGraphicFramePr/>
          <p:nvPr/>
        </p:nvGraphicFramePr>
        <p:xfrm>
          <a:off x="914400" y="2514600"/>
          <a:ext cx="3143160" cy="36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514600"/>
                    <a:ext cx="31431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 Box 5"/>
          <p:cNvSpPr/>
          <p:nvPr/>
        </p:nvSpPr>
        <p:spPr>
          <a:xfrm>
            <a:off x="5410080" y="365760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495680" y="312408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chieve student master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46c4"/>
                </a:solidFill>
                <a:latin typeface="Times New Roman"/>
              </a:rPr>
              <a:t>Curriculum Align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Object 4"/>
          <p:cNvGraphicFramePr/>
          <p:nvPr/>
        </p:nvGraphicFramePr>
        <p:xfrm>
          <a:off x="5943600" y="1981080"/>
          <a:ext cx="247176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1981080"/>
                    <a:ext cx="24717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Text Box 5"/>
          <p:cNvSpPr/>
          <p:nvPr/>
        </p:nvSpPr>
        <p:spPr>
          <a:xfrm>
            <a:off x="838080" y="1600200"/>
            <a:ext cx="5378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 only as good as the assignments or assessments that we give our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838080" y="5303880"/>
            <a:ext cx="7635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Zapf Dingba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ank you for your participation to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60000"/>
              <a:buFont typeface="Zapf Dingba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13"/>
          <p:cNvSpPr/>
          <p:nvPr/>
        </p:nvSpPr>
        <p:spPr>
          <a:xfrm>
            <a:off x="762120" y="2895480"/>
            <a:ext cx="1752480" cy="1600200"/>
          </a:xfrm>
          <a:prstGeom prst="ellipse">
            <a:avLst/>
          </a:prstGeom>
          <a:solidFill>
            <a:srgbClr val="9cb3d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by Data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j0281712"/>
          <p:cNvPicPr/>
          <p:nvPr/>
        </p:nvPicPr>
        <p:blipFill>
          <a:blip r:embed="rId2"/>
          <a:stretch/>
        </p:blipFill>
        <p:spPr>
          <a:xfrm>
            <a:off x="2895480" y="3048120"/>
            <a:ext cx="2514600" cy="3351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990720" y="32767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iculum Cal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828800" y="2438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on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809880" y="2057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dth of 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8680" y="28954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Direct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2514600" y="3505320"/>
            <a:ext cx="53352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3200400" y="2819520"/>
            <a:ext cx="3808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4419360" y="2666880"/>
            <a:ext cx="7596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5181480" y="3200400"/>
            <a:ext cx="53352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Purpos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learning curriculum align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-Based Textbooks aren’t always al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ll need to be able to calibrate supplementary material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shows this is a BEST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chieve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 We Ensure that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extbook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eacher-Create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Commercially-Bough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udent Assignments,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Assessment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are Matching Grade Level Expect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04920" y="4191120"/>
            <a:ext cx="838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We must strive to the greatest extent,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assign student work that me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the </a:t>
            </a:r>
            <a:r>
              <a:rPr b="1" i="1" lang="en-US" sz="3200" spc="-1" strike="noStrike" u="sng">
                <a:solidFill>
                  <a:srgbClr val="5b46c4"/>
                </a:solidFill>
                <a:uFillTx/>
                <a:latin typeface="Times New Roman"/>
              </a:rPr>
              <a:t>content, skills, and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46c4"/>
                </a:solidFill>
                <a:latin typeface="Times New Roman"/>
              </a:rPr>
              <a:t>of the California State Grade Level Standard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3429000" y="2951280"/>
          <a:ext cx="1523880" cy="11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951280"/>
                    <a:ext cx="15238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construct the Standa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143000" y="2514600"/>
            <a:ext cx="67816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5b46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6c4"/>
                </a:solidFill>
                <a:latin typeface="Times New Roman"/>
              </a:rPr>
              <a:t>Break down the skills and content of the California Content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5b46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46c4"/>
                </a:solidFill>
                <a:latin typeface="Times New Roman"/>
              </a:rPr>
              <a:t>Evaluate student worksheets and/or assessments to ensure that there is alignment to the skills and con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5b46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5b46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b46c4"/>
                </a:solidFill>
                <a:latin typeface="Times New Roman"/>
              </a:rPr>
              <a:t>Break Dow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he skills and topics of the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2590920" y="2743200"/>
          <a:ext cx="4109760" cy="292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743200"/>
                    <a:ext cx="410976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685800" y="274320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/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00800" y="236232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936000" y="571500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nd and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561640" y="5791320"/>
            <a:ext cx="22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457200" y="3352680"/>
            <a:ext cx="830592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3.0 Literary Response and Analysis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0" lang="en-US" sz="2400" spc="-1" strike="noStrike" u="sng">
                <a:solidFill>
                  <a:srgbClr val="5b46c4"/>
                </a:solidFill>
                <a:uFillTx/>
                <a:latin typeface="Times New Roman"/>
              </a:rPr>
              <a:t>Comprehend</a:t>
            </a:r>
            <a:r>
              <a:rPr b="0" lang="en-US" sz="2400" spc="-1" strike="noStrike">
                <a:solidFill>
                  <a:srgbClr val="5b46c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plots of classic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iry tales, myths, folktales, legends, and f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around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3.0 Literary Response and Analysis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0" lang="en-US" sz="2400" spc="-1" strike="noStrike" u="sng">
                <a:solidFill>
                  <a:srgbClr val="5b46c4"/>
                </a:solidFill>
                <a:uFillTx/>
                <a:latin typeface="Times New Roman"/>
              </a:rPr>
              <a:t>Describe</a:t>
            </a:r>
            <a:r>
              <a:rPr b="0" lang="en-US" sz="2400" spc="-1" strike="noStrike">
                <a:solidFill>
                  <a:srgbClr val="5b46c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al differences of various imaginative forms of literature, includ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ntasies, fables, myths, legends and fairy 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838080" y="457200"/>
            <a:ext cx="2743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46c4"/>
                </a:solidFill>
                <a:latin typeface="Times New Roman"/>
              </a:rPr>
              <a:t>Skill (ver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 the discrete nuances of the skills.  What do students </a:t>
            </a:r>
            <a:r>
              <a:rPr b="0" lang="en-US" sz="2400" spc="-1" strike="noStrike" u="sng">
                <a:solidFill>
                  <a:srgbClr val="5b46c4"/>
                </a:solidFill>
                <a:uFillTx/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is stand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13"/>
          <p:cNvGraphicFramePr/>
          <p:nvPr/>
        </p:nvGraphicFramePr>
        <p:xfrm>
          <a:off x="3733920" y="1066680"/>
          <a:ext cx="2509560" cy="17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1066680"/>
                    <a:ext cx="25095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457200" y="3352680"/>
            <a:ext cx="830592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3.0 Literary Response and Analysis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 Comprehend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basic plot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ic fairy tales, myths, folktales, legends, and fabl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round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3.0 Literary Response and Analysis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 Describe the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structural differences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various imaginative forms of literature, includin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fantasies, fables, myths, legends and fairy 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181480" y="457200"/>
            <a:ext cx="3048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Content (no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 the discrete nuances of the content.  What are students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learn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is stand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2209680" y="1295280"/>
          <a:ext cx="2509920" cy="17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295280"/>
                    <a:ext cx="250992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9:20:06Z</dcterms:created>
  <dc:creator>Elaine Hamada</dc:creator>
  <dc:description/>
  <dc:language>en-US</dc:language>
  <cp:lastModifiedBy>Bonnie Bell</cp:lastModifiedBy>
  <cp:lastPrinted>2000-01-12T23:21:38Z</cp:lastPrinted>
  <dcterms:modified xsi:type="dcterms:W3CDTF">2007-10-30T15:12:53Z</dcterms:modified>
  <cp:revision>43</cp:revision>
  <dc:subject/>
  <dc:title>The 1999 Academic Performance Inde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04463706</vt:r8>
  </property>
  <property fmtid="{D5CDD505-2E9C-101B-9397-08002B2CF9AE}" pid="3" name="_AuthorEmail">
    <vt:lpwstr>MGrace@acsd.k12.ca.us</vt:lpwstr>
  </property>
  <property fmtid="{D5CDD505-2E9C-101B-9397-08002B2CF9AE}" pid="4" name="_AuthorEmailDisplayName">
    <vt:lpwstr>Mary Grace</vt:lpwstr>
  </property>
  <property fmtid="{D5CDD505-2E9C-101B-9397-08002B2CF9AE}" pid="5" name="_EmailSubject">
    <vt:lpwstr/>
  </property>
</Properties>
</file>